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8C8-5ECD-4015-9ADC-EEAA81F3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273-7E0F-4A30-8F19-DB5FAD68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77D0F-17FB-4173-8A59-26CB35A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78DC-A18B-4643-8397-62DCC27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5FE4B-2B77-4392-B443-7FA9B87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4F99A-B8CF-46DA-9643-C06DABD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5C13-9343-4916-97AB-FD491E5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962E2-0B06-4417-A9DB-76240520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5F184-587D-4238-9718-63BD375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76A0A-D4BD-42E5-BF99-00780AA3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611ED-C6BF-4097-BD3C-52133A14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62F-41B6-4A9F-95D7-4A31297D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0BD-261B-4D28-86B7-13D81CE8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89E3-62AE-4BBA-B115-15439E19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BAF3-64CD-438B-93DE-43065E8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C5D-E38F-454C-AADA-DE6F6701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8CB-5571-4E93-9D88-C4750F61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05A-FA9A-41DC-A0B9-8C57B5DD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0AC-FB39-4A4F-9DC1-08B373CB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3BCB-F518-48AD-A1F3-E14A61A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7CA-CCC2-460D-A83F-90756191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6FBB-E7C8-4858-B5D2-A50FFC2F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2319-E111-4421-9B5B-05FFDF3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3642-7D0E-45A8-A7E0-5B006690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10FE-811C-413E-9525-4146510A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BD7B-23D1-4612-8D04-A1F67E57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33E5-D009-4571-988F-272A0D51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C0D3-98BA-47D5-B7DD-F54B747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B195-EA01-4B42-B615-B3610AA5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0C5A-DEA2-4DAE-AF55-64809DC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09BD-0E87-4D4F-90E2-8263D6F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225-D77F-464C-96C1-9C7B125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3804-ABFB-4D09-8880-B7CC27E8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8BBA-CA62-487C-B714-24AF224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0D78-C523-445C-8231-9BEF861E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79B8-7BC1-4DC8-837F-3173109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9F14-BFC3-432A-BD06-457C6076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C207-95B3-4FE6-B75F-1A3F79CB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F247-2397-41A9-B0D8-3AF4DD9A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C5DE-1035-48CF-B7A9-6E94189C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638F-AADC-4EEC-9A3E-9EDDE7A8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0913-2F24-4419-B6E9-1E848AA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4B0-50C0-4620-A729-841A8FEA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D1F2-01F4-44DA-9F50-4C2DEC9A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234E-D6EE-489E-ADE6-EB0813CE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F326B-3E12-40CB-B8CB-DA32726A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B241-4353-45BA-B945-FF206C8E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B8EE-C09D-446A-9E11-ADA6509E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3BC9-ECC1-4995-A60F-AC3668E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5FA1-B1DC-438A-86E5-D43AE1F6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A94F-D54E-4C4F-95AD-FAEC1B66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DC29-BB39-4FBB-9C16-A08C2CFF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9A75-4A7B-4351-A483-24F38BEE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815-E13F-4A9B-B12B-096C756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278A-0FD2-4757-BDBF-3828D8ED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95E0-D904-4D4D-9431-932B396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6EFA-8768-45E2-85DB-4E9570B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C24CB-C2B4-438B-ADC8-73F7A723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E162-DE2D-4D3D-AB69-BD5BA97F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DF5D4-F04F-4735-AC68-E83854F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8171-CE9A-48FC-AA93-A92A8D22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FF53-D68E-4883-A357-388B72A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405D-E473-448B-B3E3-E4AD4305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3527-9440-4FB1-A15F-DCA7D5B5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A1C-74E5-4C3B-B71A-D6A2585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D51C-2F0A-45DE-807F-EDFAC6F6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CA35-77AA-459B-B1E2-4A765104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2130-E162-4005-8492-DC94406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A348-8FF0-4059-B4C4-D2804AC9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C17B-1936-45F0-AA4D-E4535D26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FA540-774C-4661-AEDD-ACBDE98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96B9-082E-4A69-8957-FA10800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0210-C16F-4762-991C-647D529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B85A-9E1E-4E2C-B396-63CF4AD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869CA-12DA-4C0A-B537-5E352BF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AAD-19D7-4653-AF5E-680D068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219D-CAEC-45DB-A464-55ABEA6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E9206-CC95-46EC-B127-665B987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B327A-81AC-4FA1-AA3F-8BD51FFB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E455-13F4-476E-92F4-F7A953AA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5D1D-0F2C-4394-BD33-5DC7D064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0EA5-B795-4AB4-9BA0-921ECEA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E7B3-851F-4E85-B3C5-B8BCCA3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EB67A-2D32-454F-90AE-773FC85C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EDC7-49BE-495A-8D1F-1C209AC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82ABA-4209-46AF-9417-8D95EB7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868-B673-4B45-89F1-CA79319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43E39-6E40-495D-894F-E6546956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357D-5A9B-4F8C-BF94-45EA73A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C14EA-9307-4769-ADB4-1766E190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0DCA-3E9A-4FDE-92BC-9632A5E2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081B8-C520-465D-94B1-77899414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8FFD-9513-4B5A-BC08-3E499865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7BFD9-06AC-4433-BDE9-481CD972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1F85E-C91B-4F97-84D3-8A1535EF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CF94-0173-429A-97AC-D89744AF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EDEE-DA2D-4F9B-99C2-D4C0FF64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0AF-091C-42A7-927B-8D383BA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F262F-F7DC-43DB-B569-6FCEFBD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3DA1-278E-450B-AF06-966B3292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D76D-8FCF-4BE7-BE4C-F46917E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D493-5DED-43DE-8CFD-58C2CDE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CD4B-F227-4862-AD7B-342A9BD3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41699-44C4-40B5-9D45-32A8543E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C32D-F0AB-46A9-9D56-E53AED72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94F30-E438-4CB8-907A-581217B9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D08C7-472D-4B02-9B19-F051E2E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FA973-55DE-4590-9860-571A12F3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B86-EE7A-471E-A133-625394B9C15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B30B-DC82-4237-9606-258D5DB5E46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6B7-2315-4790-B4BE-BC725C032BC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9DD6-5C62-465A-BB83-11D020FDF8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D89-F8A3-4B5D-B651-B746E8A81A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153B-F97F-490A-BC00-93A14928333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Straight Connector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A0F-8A00-468E-AA53-BFACEA22A40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6AD-E9E6-4BD2-BB4C-C6706938257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82F5-86A0-40C7-BBA9-B2D308AD0C3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838080" y="914400"/>
            <a:ext cx="73915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APT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AWE OF GO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CC WORKERS’ RETREAT 2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EVE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IN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s 20:17-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838080" y="304920"/>
            <a:ext cx="777240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EN WAS THE LAST TIME YOU WERE BROUGHT INTO T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fuln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nd inadequa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ess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nd difficu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u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nd persp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2"/>
          <p:cNvSpPr/>
          <p:nvPr/>
        </p:nvSpPr>
        <p:spPr>
          <a:xfrm>
            <a:off x="762120" y="45720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 MINISTER WITH OUR LIVES – we look to God to enable us by His grace, power and sufficienc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33520" y="35812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.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uthfu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–vss.20-21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lemnly testifying…repentance…and fai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toward our Lord Jesus Chri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609480" y="3808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I.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ARL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T ANY COST – vss. 22-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914400" y="236232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brews 12:1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12:24-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ue service is costly – love and sacrific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609480" y="304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.22-23 “boun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the Spir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…chains and tribulations awai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"/>
          <p:cNvSpPr/>
          <p:nvPr/>
        </p:nvSpPr>
        <p:spPr>
          <a:xfrm>
            <a:off x="914400" y="186516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only genuine comfort will come from acknowledging that the all-powerful God has done it and that He is infinitely wise and infinitely loving to those who trust Him.”  John P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990720" y="506556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Corinthians 1:3-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s 14:22; John 16: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609480" y="228600"/>
            <a:ext cx="72392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v.24a,  “none of these move me… I consider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my life worth nothing to m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…”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609480" y="24382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lossians 1:24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609480" y="3490920"/>
            <a:ext cx="82882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Christ’s afflictions lack nothing in atoning worth.  What they lack is a personal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presentation in suffering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human form for those whom He died.” John Pip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838080" y="588960"/>
            <a:ext cx="784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d has designed our afflictions - to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reak our self-confidenc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to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ad us to pray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to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an us from worldly attractio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s well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epen us in fellowship with Go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hilippians 3:10-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2"/>
          <p:cNvSpPr/>
          <p:nvPr/>
        </p:nvSpPr>
        <p:spPr>
          <a:xfrm>
            <a:off x="68580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v.24b,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at I may finish the race…and the ministry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685800" y="236232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imothy 4:5-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ing faithful and fearless, Paul was determined and resolved (to persevere)…there is no turning bac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2"/>
          <p:cNvSpPr/>
          <p:nvPr/>
        </p:nvSpPr>
        <p:spPr>
          <a:xfrm>
            <a:off x="609480" y="334800"/>
            <a:ext cx="8077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III.  FIRM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ITMENT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 TO FULFIL THE MINISTRY– vss. 25-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3"/>
          <p:cNvSpPr/>
          <p:nvPr/>
        </p:nvSpPr>
        <p:spPr>
          <a:xfrm>
            <a:off x="609480" y="1981080"/>
            <a:ext cx="769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ul was committ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lig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 “The Whole Counsel of God” – v.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838080" y="6094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 be Watchful: “Pay Careful Attention to Yourselves and to All the Flock” – v.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 Timothy 4:1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838080" y="609480"/>
            <a:ext cx="78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pefu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 “Commend You to God and to the Word of His Grace” – v.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7430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 “I Coveted No One’s Silver” – v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4"/>
          <p:cNvSpPr/>
          <p:nvPr/>
        </p:nvSpPr>
        <p:spPr>
          <a:xfrm>
            <a:off x="914400" y="99072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RECAPTURING OUR SENSE OF AWE, WE, AS GOD’S CHILDREN ARE HUMBLED BY THIS GLIMPSE OF WHO GOD IS, WHO WE ARE, AND WHAT WE HAVE IN CHRIS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838080" y="110340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acious/Genero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 “More Blessed to Give” – v.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tthew 10: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12:24-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457200" y="304920"/>
            <a:ext cx="83059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God does not require us to be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successful, but He does require us to be faithful, fearless and firm…to persevere, considering: (character, cost, commitment) in serving Him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"/>
          <p:cNvSpPr/>
          <p:nvPr/>
        </p:nvSpPr>
        <p:spPr>
          <a:xfrm>
            <a:off x="533520" y="3740040"/>
            <a:ext cx="76960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"May the God of all grace . .. after you have suffered a while, perfect, estab­lish, strengthen, and settle you" (1 Peter 5:10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685800" y="167652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000000"/>
                </a:solidFill>
                <a:latin typeface="Arial"/>
                <a:ea typeface="Arial"/>
              </a:rPr>
              <a:t>Colossians 4: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PH" sz="4000" spc="-1" strike="noStrike">
                <a:solidFill>
                  <a:srgbClr val="000000"/>
                </a:solidFill>
                <a:latin typeface="Arial"/>
                <a:ea typeface="Arial"/>
              </a:rPr>
              <a:t>Say to Archipus, “Take heed to the ministry which you have received in the Lord, that you may fulfill 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45720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 FOR REFLE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"/>
          <p:cNvSpPr/>
          <p:nvPr/>
        </p:nvSpPr>
        <p:spPr>
          <a:xfrm>
            <a:off x="762120" y="1279440"/>
            <a:ext cx="77724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Arial"/>
                <a:ea typeface="Arial"/>
              </a:rPr>
              <a:t>1.   Why is it important to prioritize character over giftedness in terms of our service to the L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45720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 FOR REFLE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533520" y="162396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Arial"/>
                <a:ea typeface="Arial"/>
              </a:rPr>
              <a:t>2.  Relate a situation when you’ve faced adversity for the sake of Christ, how did you respond, what can you testify about regarding the Lord’s enabling and sustaining g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"/>
          <p:cNvSpPr/>
          <p:nvPr/>
        </p:nvSpPr>
        <p:spPr>
          <a:xfrm>
            <a:off x="60948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 FOR REFLE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609480" y="137160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.  Assess your service in the areas of commitment mentioned above.  Share at least one area where you would want God to develop and strengthen in your life and minist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4"/>
          <p:cNvSpPr/>
          <p:nvPr/>
        </p:nvSpPr>
        <p:spPr>
          <a:xfrm>
            <a:off x="762120" y="30492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 are indeed grateful to Him for calling us as His own and for allowing us to participate in His kingdom wo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"/>
          <p:cNvSpPr/>
          <p:nvPr/>
        </p:nvSpPr>
        <p:spPr>
          <a:xfrm>
            <a:off x="685800" y="3048120"/>
            <a:ext cx="7620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fact that God doesn’t need us and yet He chose us (John 15:16) to bear much fruit for His glory is truly a great and awesome privileg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4"/>
          <p:cNvSpPr/>
          <p:nvPr/>
        </p:nvSpPr>
        <p:spPr>
          <a:xfrm>
            <a:off x="685800" y="457200"/>
            <a:ext cx="777240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Read Acts 20:17-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Contex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Acts 1 – post resurrection and ascension of Chris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v. 8 – His wit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Acts 9 – Paul’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Philippians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2 Corinthians 11, 12:1-4, 9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1 Timothy 1:12-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Calibri"/>
              </a:rPr>
              <a:t>2 Timothy 1:11-12; 4:7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4"/>
          <p:cNvSpPr/>
          <p:nvPr/>
        </p:nvSpPr>
        <p:spPr>
          <a:xfrm>
            <a:off x="838080" y="380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Arial"/>
                <a:ea typeface="Calibri"/>
              </a:rPr>
              <a:t>Paul’s life is a great example and an encouragement to us, of persevering service to the Lo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838080" y="259092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severanc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 steadiness, faithfulness, and consis­tency. It means hanging in there until the job is done. It is the staying power to finish well, by the grace of G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533520" y="2286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ul laid down important principles as a pattern to help us persevere in the work of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066680" y="2133720"/>
            <a:ext cx="6782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ithful in CHARACTER -  vss.17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) Fearless at any COST–    vss. 22-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 Firm COMMITMENT – vss. 25-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609480" y="45720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ersevering service requires be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. FAITHFUL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RACT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– vss. 18-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609480" y="34290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very persevering service must be rooted in ou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shi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with Christ and exude in Christlikeness (John 15:5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685800" y="5335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  <a:ea typeface="Arial"/>
              </a:rPr>
              <a:t>From our intimate knowledge of Christ, the following will find their appropriate expression in our l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– v.18    “you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…wha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nn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I alway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v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among you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685800" y="42559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 WOULD WANT TO KNOW WHO AND WHAT KIND OF PERSONS WE REALLY A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>
            <a:off x="762120" y="3049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m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– v.19a, 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rv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the Lord with all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umili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tt. 20:28; Phil. 2:5-8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13:12-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304920" y="41036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ssiona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– v.19b, “with many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ar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nd trial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6:16:17Z</dcterms:created>
  <dc:creator>Ence Ragos</dc:creator>
  <dc:description/>
  <dc:language>en-US</dc:language>
  <cp:lastModifiedBy>Marc Grande</cp:lastModifiedBy>
  <dcterms:modified xsi:type="dcterms:W3CDTF">2024-08-27T04:53:02Z</dcterms:modified>
  <cp:revision>222</cp:revision>
  <dc:subject/>
  <dc:title>Slide 1</dc:title>
</cp:coreProperties>
</file>